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9.wmf" ContentType="image/x-wmf"/>
  <Override PartName="/ppt/media/image14.wmf" ContentType="image/x-wmf"/>
  <Override PartName="/ppt/media/image1.wmf" ContentType="image/x-wmf"/>
  <Override PartName="/ppt/media/image2.wmf" ContentType="image/x-wmf"/>
  <Override PartName="/ppt/media/image4.wmf" ContentType="image/x-wmf"/>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12.png" ContentType="image/png"/>
  <Override PartName="/ppt/media/image7.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E27CF-1B9E-4E38-9171-48B9FB7C3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2E090-1AE8-4050-B462-F87F1AD35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51F74-413D-4365-85E3-3379B6782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61FB1-EA68-47EA-8A79-1F06617CA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45583-156E-4ECF-B064-3FE01E3BF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0D5A5-A880-48E9-8059-95D55914E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3843F-41CF-42E9-9726-1FC293840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0D701-CC17-4087-973C-EC419FCDE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B7C24-C6AC-489C-B2C8-2BB336683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2702C-FAFF-48F3-B797-8C2DF9763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31F53-5DFE-4A04-9968-B3E752CCC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06487-69CF-4520-ACDB-FE7FC428C7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20C7-83DE-4B33-81C8-03CDEF980B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600200" y="1295280"/>
          <a:ext cx="6067440" cy="4876920"/>
        </p:xfrm>
        <a:graphic>
          <a:graphicData uri="http://schemas.openxmlformats.org/presentationml/2006/ole">
            <p:oleObj progId="Word.Document.12" r:id="rId1" spid="">
              <p:embed/>
              <p:pic>
                <p:nvPicPr>
                  <p:cNvPr id="42" name="" descr=""/>
                  <p:cNvPicPr/>
                  <p:nvPr/>
                </p:nvPicPr>
                <p:blipFill>
                  <a:blip r:embed="rId2"/>
                  <a:stretch/>
                </p:blipFill>
                <p:spPr>
                  <a:xfrm>
                    <a:off x="1600200" y="1295280"/>
                    <a:ext cx="606744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1581120" y="1343160"/>
          <a:ext cx="6105600" cy="4638600"/>
        </p:xfrm>
        <a:graphic>
          <a:graphicData uri="http://schemas.openxmlformats.org/presentationml/2006/ole">
            <p:oleObj progId="Word.Document.12" r:id="rId1" spid="">
              <p:embed/>
              <p:pic>
                <p:nvPicPr>
                  <p:cNvPr id="67" name="" descr=""/>
                  <p:cNvPicPr/>
                  <p:nvPr/>
                </p:nvPicPr>
                <p:blipFill>
                  <a:blip r:embed="rId2"/>
                  <a:stretch/>
                </p:blipFill>
                <p:spPr>
                  <a:xfrm>
                    <a:off x="1581120" y="1343160"/>
                    <a:ext cx="610560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523880" y="914400"/>
          <a:ext cx="6083280" cy="4826160"/>
        </p:xfrm>
        <a:graphic>
          <a:graphicData uri="http://schemas.openxmlformats.org/presentationml/2006/ole">
            <p:oleObj progId="Word.Document.12" r:id="rId1" spid="">
              <p:embed/>
              <p:pic>
                <p:nvPicPr>
                  <p:cNvPr id="69" name="" descr=""/>
                  <p:cNvPicPr/>
                  <p:nvPr/>
                </p:nvPicPr>
                <p:blipFill>
                  <a:blip r:embed="rId2"/>
                  <a:stretch/>
                </p:blipFill>
                <p:spPr>
                  <a:xfrm>
                    <a:off x="1523880" y="914400"/>
                    <a:ext cx="6083280" cy="482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3880" y="304920"/>
            <a:ext cx="58676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Large Particles data contained in the CDROM</a:t>
            </a:r>
            <a:endParaRPr b="0" lang="en-US" sz="1600" spc="-1" strike="noStrike">
              <a:solidFill>
                <a:srgbClr val="000000"/>
              </a:solidFill>
              <a:latin typeface="Times New Roman"/>
            </a:endParaRPr>
          </a:p>
        </p:txBody>
      </p:sp>
      <p:sp>
        <p:nvSpPr>
          <p:cNvPr id="71" name=""/>
          <p:cNvSpPr/>
          <p:nvPr/>
        </p:nvSpPr>
        <p:spPr>
          <a:xfrm>
            <a:off x="990720" y="762120"/>
            <a:ext cx="4038480" cy="173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did not include in the CDROM all the size spectra,  instead we provide synthetic data on large particles distribution for each sampling date. The data have been averaged over 10 meters. Each file corresponds to a sampling date and the name of the file stand for the date of the sampling Ddd/mm/yy (for example D120395 stands for a sampling at DYFAMED on the 12th of March 1995). </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
          <p:cNvSpPr/>
          <p:nvPr/>
        </p:nvSpPr>
        <p:spPr>
          <a:xfrm>
            <a:off x="990720" y="3124080"/>
            <a:ext cx="4038480" cy="173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The order of the column in each file i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ol 1   : Depth (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ol 2  : Abundance (# </a:t>
            </a:r>
            <a:r>
              <a:rPr b="0" lang="en-US" sz="1200" spc="-1" strike="noStrike">
                <a:solidFill>
                  <a:srgbClr val="000000"/>
                </a:solidFill>
                <a:latin typeface="Times New Roman"/>
                <a:ea typeface="Times New Roman"/>
              </a:rPr>
              <a:t>/ l</a:t>
            </a:r>
            <a:r>
              <a:rPr b="0" lang="fr-FR"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ol 3   : Mean length (m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ol 4   : Mean projected area (mm2)</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ol 5   : Mean ESD (m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ol 6   : Total volume (ppm)</a:t>
            </a: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ol 7   : Total Dry weight (</a:t>
            </a:r>
            <a:r>
              <a:rPr b="0" lang="fr-FR" sz="1200" spc="-1" strike="noStrike">
                <a:solidFill>
                  <a:srgbClr val="000000"/>
                </a:solidFill>
                <a:latin typeface="Symbol"/>
                <a:ea typeface="Symbol"/>
              </a:rPr>
              <a:t></a:t>
            </a:r>
            <a:r>
              <a:rPr b="0" lang="en-US" sz="1200" spc="-1" strike="noStrike">
                <a:solidFill>
                  <a:srgbClr val="000000"/>
                </a:solidFill>
                <a:latin typeface="Times New Roman"/>
                <a:ea typeface="Times New Roman"/>
              </a:rPr>
              <a:t>g / </a:t>
            </a:r>
            <a:r>
              <a:rPr b="0" lang="fr-FR" sz="1200" spc="-1" strike="noStrike">
                <a:solidFill>
                  <a:srgbClr val="000000"/>
                </a:solidFill>
                <a:latin typeface="Times New Roman"/>
                <a:ea typeface="Times New Roman"/>
              </a:rPr>
              <a:t>l) </a:t>
            </a:r>
            <a:endParaRPr b="0" lang="en-US" sz="1200" spc="-1" strike="noStrike">
              <a:solidFill>
                <a:srgbClr val="000000"/>
              </a:solidFill>
              <a:latin typeface="Times New Roman"/>
            </a:endParaRPr>
          </a:p>
        </p:txBody>
      </p:sp>
      <p:grpSp>
        <p:nvGrpSpPr>
          <p:cNvPr id="73" name=""/>
          <p:cNvGrpSpPr/>
          <p:nvPr/>
        </p:nvGrpSpPr>
        <p:grpSpPr>
          <a:xfrm>
            <a:off x="5562720" y="762120"/>
            <a:ext cx="2895480" cy="5943600"/>
            <a:chOff x="5562720" y="762120"/>
            <a:chExt cx="2895480" cy="5943600"/>
          </a:xfrm>
        </p:grpSpPr>
        <p:sp>
          <p:nvSpPr>
            <p:cNvPr id="74" name=""/>
            <p:cNvSpPr/>
            <p:nvPr/>
          </p:nvSpPr>
          <p:spPr>
            <a:xfrm>
              <a:off x="5715000" y="838080"/>
              <a:ext cx="251460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mpling periods for LP, phytoplankton and sediment trap at DYFAMED between 1992 and 96. The * marks period for which a CTD transect was completed.</a:t>
              </a:r>
              <a:endParaRPr b="0" lang="en-US" sz="1200" spc="-1" strike="noStrike">
                <a:solidFill>
                  <a:srgbClr val="000000"/>
                </a:solidFill>
                <a:latin typeface="Times New Roman"/>
              </a:endParaRPr>
            </a:p>
          </p:txBody>
        </p:sp>
        <p:grpSp>
          <p:nvGrpSpPr>
            <p:cNvPr id="75" name=""/>
            <p:cNvGrpSpPr/>
            <p:nvPr/>
          </p:nvGrpSpPr>
          <p:grpSpPr>
            <a:xfrm>
              <a:off x="5791320" y="1828800"/>
              <a:ext cx="2418840" cy="4651200"/>
              <a:chOff x="5791320" y="1828800"/>
              <a:chExt cx="2418840" cy="4651200"/>
            </a:xfrm>
          </p:grpSpPr>
          <p:grpSp>
            <p:nvGrpSpPr>
              <p:cNvPr id="76" name=""/>
              <p:cNvGrpSpPr/>
              <p:nvPr/>
            </p:nvGrpSpPr>
            <p:grpSpPr>
              <a:xfrm>
                <a:off x="5794560" y="1829880"/>
                <a:ext cx="2411280" cy="4649040"/>
                <a:chOff x="5794560" y="1829880"/>
                <a:chExt cx="2411280" cy="4649040"/>
              </a:xfrm>
            </p:grpSpPr>
            <p:grpSp>
              <p:nvGrpSpPr>
                <p:cNvPr id="77" name=""/>
                <p:cNvGrpSpPr/>
                <p:nvPr/>
              </p:nvGrpSpPr>
              <p:grpSpPr>
                <a:xfrm>
                  <a:off x="5794560" y="1829880"/>
                  <a:ext cx="2411280" cy="267120"/>
                  <a:chOff x="5794560" y="1829880"/>
                  <a:chExt cx="2411280" cy="267120"/>
                </a:xfrm>
              </p:grpSpPr>
              <p:sp>
                <p:nvSpPr>
                  <p:cNvPr id="78" name=""/>
                  <p:cNvSpPr/>
                  <p:nvPr/>
                </p:nvSpPr>
                <p:spPr>
                  <a:xfrm>
                    <a:off x="5794560" y="1829880"/>
                    <a:ext cx="2411280" cy="26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Date (UVP)</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 name=""/>
                  <p:cNvSpPr/>
                  <p:nvPr/>
                </p:nvSpPr>
                <p:spPr>
                  <a:xfrm>
                    <a:off x="5794560" y="1829880"/>
                    <a:ext cx="2411280" cy="267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5794560" y="2097000"/>
                  <a:ext cx="770760" cy="213480"/>
                  <a:chOff x="5794560" y="2097000"/>
                  <a:chExt cx="770760" cy="213480"/>
                </a:xfrm>
              </p:grpSpPr>
              <p:sp>
                <p:nvSpPr>
                  <p:cNvPr id="81" name=""/>
                  <p:cNvSpPr/>
                  <p:nvPr/>
                </p:nvSpPr>
                <p:spPr>
                  <a:xfrm>
                    <a:off x="5794560" y="2097000"/>
                    <a:ext cx="77076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01/9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 name=""/>
                  <p:cNvSpPr/>
                  <p:nvPr/>
                </p:nvSpPr>
                <p:spPr>
                  <a:xfrm>
                    <a:off x="5794560" y="2097000"/>
                    <a:ext cx="77076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6565680" y="2097000"/>
                  <a:ext cx="819720" cy="213480"/>
                  <a:chOff x="6565680" y="2097000"/>
                  <a:chExt cx="819720" cy="213480"/>
                </a:xfrm>
              </p:grpSpPr>
              <p:sp>
                <p:nvSpPr>
                  <p:cNvPr id="84" name=""/>
                  <p:cNvSpPr/>
                  <p:nvPr/>
                </p:nvSpPr>
                <p:spPr>
                  <a:xfrm>
                    <a:off x="6565680" y="209700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10/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 name=""/>
                  <p:cNvSpPr/>
                  <p:nvPr/>
                </p:nvSpPr>
                <p:spPr>
                  <a:xfrm>
                    <a:off x="6565680" y="209700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7385760" y="2097000"/>
                  <a:ext cx="819720" cy="213480"/>
                  <a:chOff x="7385760" y="2097000"/>
                  <a:chExt cx="819720" cy="213480"/>
                </a:xfrm>
              </p:grpSpPr>
              <p:sp>
                <p:nvSpPr>
                  <p:cNvPr id="87" name=""/>
                  <p:cNvSpPr/>
                  <p:nvPr/>
                </p:nvSpPr>
                <p:spPr>
                  <a:xfrm>
                    <a:off x="7385760" y="209700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05/9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 name=""/>
                  <p:cNvSpPr/>
                  <p:nvPr/>
                </p:nvSpPr>
                <p:spPr>
                  <a:xfrm>
                    <a:off x="7385760" y="209700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794560" y="2310840"/>
                  <a:ext cx="770760" cy="213840"/>
                  <a:chOff x="5794560" y="2310840"/>
                  <a:chExt cx="770760" cy="213840"/>
                </a:xfrm>
              </p:grpSpPr>
              <p:sp>
                <p:nvSpPr>
                  <p:cNvPr id="90" name=""/>
                  <p:cNvSpPr/>
                  <p:nvPr/>
                </p:nvSpPr>
                <p:spPr>
                  <a:xfrm>
                    <a:off x="5794560" y="2310840"/>
                    <a:ext cx="770760" cy="21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03/9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 name=""/>
                  <p:cNvSpPr/>
                  <p:nvPr/>
                </p:nvSpPr>
                <p:spPr>
                  <a:xfrm>
                    <a:off x="5794560" y="2310840"/>
                    <a:ext cx="770760" cy="213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6565680" y="2310840"/>
                  <a:ext cx="819720" cy="213840"/>
                  <a:chOff x="6565680" y="2310840"/>
                  <a:chExt cx="819720" cy="213840"/>
                </a:xfrm>
              </p:grpSpPr>
              <p:sp>
                <p:nvSpPr>
                  <p:cNvPr id="93" name=""/>
                  <p:cNvSpPr/>
                  <p:nvPr/>
                </p:nvSpPr>
                <p:spPr>
                  <a:xfrm>
                    <a:off x="6565680" y="2310840"/>
                    <a:ext cx="819720" cy="21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9/11/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 name=""/>
                  <p:cNvSpPr/>
                  <p:nvPr/>
                </p:nvSpPr>
                <p:spPr>
                  <a:xfrm>
                    <a:off x="6565680" y="2310840"/>
                    <a:ext cx="819720" cy="213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7385760" y="2310840"/>
                  <a:ext cx="819720" cy="213840"/>
                  <a:chOff x="7385760" y="2310840"/>
                  <a:chExt cx="819720" cy="213840"/>
                </a:xfrm>
              </p:grpSpPr>
              <p:sp>
                <p:nvSpPr>
                  <p:cNvPr id="96" name=""/>
                  <p:cNvSpPr/>
                  <p:nvPr/>
                </p:nvSpPr>
                <p:spPr>
                  <a:xfrm>
                    <a:off x="7385760" y="2310840"/>
                    <a:ext cx="819720" cy="21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05/9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 name=""/>
                  <p:cNvSpPr/>
                  <p:nvPr/>
                </p:nvSpPr>
                <p:spPr>
                  <a:xfrm>
                    <a:off x="7385760" y="2310840"/>
                    <a:ext cx="819720" cy="213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5794560" y="2524680"/>
                  <a:ext cx="770760" cy="213480"/>
                  <a:chOff x="5794560" y="2524680"/>
                  <a:chExt cx="770760" cy="213480"/>
                </a:xfrm>
              </p:grpSpPr>
              <p:sp>
                <p:nvSpPr>
                  <p:cNvPr id="99" name=""/>
                  <p:cNvSpPr/>
                  <p:nvPr/>
                </p:nvSpPr>
                <p:spPr>
                  <a:xfrm>
                    <a:off x="5794560" y="2524680"/>
                    <a:ext cx="77076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05/9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 name=""/>
                  <p:cNvSpPr/>
                  <p:nvPr/>
                </p:nvSpPr>
                <p:spPr>
                  <a:xfrm>
                    <a:off x="5794560" y="2524680"/>
                    <a:ext cx="77076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6565680" y="2524680"/>
                  <a:ext cx="819720" cy="213480"/>
                  <a:chOff x="6565680" y="2524680"/>
                  <a:chExt cx="819720" cy="213480"/>
                </a:xfrm>
              </p:grpSpPr>
              <p:sp>
                <p:nvSpPr>
                  <p:cNvPr id="102" name=""/>
                  <p:cNvSpPr/>
                  <p:nvPr/>
                </p:nvSpPr>
                <p:spPr>
                  <a:xfrm>
                    <a:off x="6565680" y="252468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12/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 name=""/>
                  <p:cNvSpPr/>
                  <p:nvPr/>
                </p:nvSpPr>
                <p:spPr>
                  <a:xfrm>
                    <a:off x="6565680" y="252468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7385760" y="2524680"/>
                  <a:ext cx="819720" cy="213480"/>
                  <a:chOff x="7385760" y="2524680"/>
                  <a:chExt cx="819720" cy="213480"/>
                </a:xfrm>
              </p:grpSpPr>
              <p:sp>
                <p:nvSpPr>
                  <p:cNvPr id="105" name=""/>
                  <p:cNvSpPr/>
                  <p:nvPr/>
                </p:nvSpPr>
                <p:spPr>
                  <a:xfrm>
                    <a:off x="7385760" y="252468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05/9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 name=""/>
                  <p:cNvSpPr/>
                  <p:nvPr/>
                </p:nvSpPr>
                <p:spPr>
                  <a:xfrm>
                    <a:off x="7385760" y="252468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794560" y="2738520"/>
                  <a:ext cx="770760" cy="213480"/>
                  <a:chOff x="5794560" y="2738520"/>
                  <a:chExt cx="770760" cy="213480"/>
                </a:xfrm>
              </p:grpSpPr>
              <p:sp>
                <p:nvSpPr>
                  <p:cNvPr id="108" name=""/>
                  <p:cNvSpPr/>
                  <p:nvPr/>
                </p:nvSpPr>
                <p:spPr>
                  <a:xfrm>
                    <a:off x="5794560" y="2738520"/>
                    <a:ext cx="77076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06/9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 name=""/>
                  <p:cNvSpPr/>
                  <p:nvPr/>
                </p:nvSpPr>
                <p:spPr>
                  <a:xfrm>
                    <a:off x="5794560" y="2738520"/>
                    <a:ext cx="77076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6565680" y="2738520"/>
                  <a:ext cx="819720" cy="213480"/>
                  <a:chOff x="6565680" y="2738520"/>
                  <a:chExt cx="819720" cy="213480"/>
                </a:xfrm>
              </p:grpSpPr>
              <p:sp>
                <p:nvSpPr>
                  <p:cNvPr id="111" name=""/>
                  <p:cNvSpPr/>
                  <p:nvPr/>
                </p:nvSpPr>
                <p:spPr>
                  <a:xfrm>
                    <a:off x="6565680" y="273852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01/9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2" name=""/>
                  <p:cNvSpPr/>
                  <p:nvPr/>
                </p:nvSpPr>
                <p:spPr>
                  <a:xfrm>
                    <a:off x="6565680" y="273852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7385760" y="2738520"/>
                  <a:ext cx="819720" cy="213480"/>
                  <a:chOff x="7385760" y="2738520"/>
                  <a:chExt cx="819720" cy="213480"/>
                </a:xfrm>
              </p:grpSpPr>
              <p:sp>
                <p:nvSpPr>
                  <p:cNvPr id="114" name=""/>
                  <p:cNvSpPr/>
                  <p:nvPr/>
                </p:nvSpPr>
                <p:spPr>
                  <a:xfrm>
                    <a:off x="7385760" y="273852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1/05/9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 name=""/>
                  <p:cNvSpPr/>
                  <p:nvPr/>
                </p:nvSpPr>
                <p:spPr>
                  <a:xfrm>
                    <a:off x="7385760" y="273852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5794560" y="2952360"/>
                  <a:ext cx="770760" cy="213840"/>
                  <a:chOff x="5794560" y="2952360"/>
                  <a:chExt cx="770760" cy="213840"/>
                </a:xfrm>
              </p:grpSpPr>
              <p:sp>
                <p:nvSpPr>
                  <p:cNvPr id="117" name=""/>
                  <p:cNvSpPr/>
                  <p:nvPr/>
                </p:nvSpPr>
                <p:spPr>
                  <a:xfrm>
                    <a:off x="5794560" y="2952360"/>
                    <a:ext cx="770760" cy="21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7/07/9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5794560" y="2952360"/>
                    <a:ext cx="770760" cy="213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6565680" y="2952360"/>
                  <a:ext cx="819720" cy="213840"/>
                  <a:chOff x="6565680" y="2952360"/>
                  <a:chExt cx="819720" cy="213840"/>
                </a:xfrm>
              </p:grpSpPr>
              <p:sp>
                <p:nvSpPr>
                  <p:cNvPr id="120" name=""/>
                  <p:cNvSpPr/>
                  <p:nvPr/>
                </p:nvSpPr>
                <p:spPr>
                  <a:xfrm>
                    <a:off x="6565680" y="2952360"/>
                    <a:ext cx="819720" cy="21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3/02/9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 name=""/>
                  <p:cNvSpPr/>
                  <p:nvPr/>
                </p:nvSpPr>
                <p:spPr>
                  <a:xfrm>
                    <a:off x="6565680" y="2952360"/>
                    <a:ext cx="819720" cy="213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7385760" y="2952360"/>
                  <a:ext cx="819720" cy="213840"/>
                  <a:chOff x="7385760" y="2952360"/>
                  <a:chExt cx="819720" cy="213840"/>
                </a:xfrm>
              </p:grpSpPr>
              <p:sp>
                <p:nvSpPr>
                  <p:cNvPr id="123" name=""/>
                  <p:cNvSpPr/>
                  <p:nvPr/>
                </p:nvSpPr>
                <p:spPr>
                  <a:xfrm>
                    <a:off x="7385760" y="2952360"/>
                    <a:ext cx="819720" cy="21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07/9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 name=""/>
                  <p:cNvSpPr/>
                  <p:nvPr/>
                </p:nvSpPr>
                <p:spPr>
                  <a:xfrm>
                    <a:off x="7385760" y="2952360"/>
                    <a:ext cx="819720" cy="213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794560" y="3166200"/>
                  <a:ext cx="770760" cy="224280"/>
                  <a:chOff x="5794560" y="3166200"/>
                  <a:chExt cx="770760" cy="224280"/>
                </a:xfrm>
              </p:grpSpPr>
              <p:sp>
                <p:nvSpPr>
                  <p:cNvPr id="126" name=""/>
                  <p:cNvSpPr/>
                  <p:nvPr/>
                </p:nvSpPr>
                <p:spPr>
                  <a:xfrm>
                    <a:off x="5794560" y="3166200"/>
                    <a:ext cx="77076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9/9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 name=""/>
                  <p:cNvSpPr/>
                  <p:nvPr/>
                </p:nvSpPr>
                <p:spPr>
                  <a:xfrm>
                    <a:off x="5794560" y="3166200"/>
                    <a:ext cx="77076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6565680" y="3166200"/>
                  <a:ext cx="819720" cy="224280"/>
                  <a:chOff x="6565680" y="3166200"/>
                  <a:chExt cx="819720" cy="224280"/>
                </a:xfrm>
              </p:grpSpPr>
              <p:sp>
                <p:nvSpPr>
                  <p:cNvPr id="129" name=""/>
                  <p:cNvSpPr/>
                  <p:nvPr/>
                </p:nvSpPr>
                <p:spPr>
                  <a:xfrm>
                    <a:off x="6565680" y="316620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8/03/9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565680" y="316620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7385760" y="3166200"/>
                  <a:ext cx="819720" cy="224280"/>
                  <a:chOff x="7385760" y="3166200"/>
                  <a:chExt cx="819720" cy="224280"/>
                </a:xfrm>
              </p:grpSpPr>
              <p:sp>
                <p:nvSpPr>
                  <p:cNvPr id="132" name=""/>
                  <p:cNvSpPr/>
                  <p:nvPr/>
                </p:nvSpPr>
                <p:spPr>
                  <a:xfrm>
                    <a:off x="7385760" y="316620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
                  <p:cNvSpPr/>
                  <p:nvPr/>
                </p:nvSpPr>
                <p:spPr>
                  <a:xfrm>
                    <a:off x="7385760" y="316620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794560" y="3390480"/>
                  <a:ext cx="770760" cy="213480"/>
                  <a:chOff x="5794560" y="3390480"/>
                  <a:chExt cx="770760" cy="213480"/>
                </a:xfrm>
              </p:grpSpPr>
              <p:sp>
                <p:nvSpPr>
                  <p:cNvPr id="135" name=""/>
                  <p:cNvSpPr/>
                  <p:nvPr/>
                </p:nvSpPr>
                <p:spPr>
                  <a:xfrm>
                    <a:off x="5794560" y="3390480"/>
                    <a:ext cx="77076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10/9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6" name=""/>
                  <p:cNvSpPr/>
                  <p:nvPr/>
                </p:nvSpPr>
                <p:spPr>
                  <a:xfrm>
                    <a:off x="5794560" y="3390480"/>
                    <a:ext cx="77076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565680" y="3390480"/>
                  <a:ext cx="819720" cy="213480"/>
                  <a:chOff x="6565680" y="3390480"/>
                  <a:chExt cx="819720" cy="213480"/>
                </a:xfrm>
              </p:grpSpPr>
              <p:sp>
                <p:nvSpPr>
                  <p:cNvPr id="138" name=""/>
                  <p:cNvSpPr/>
                  <p:nvPr/>
                </p:nvSpPr>
                <p:spPr>
                  <a:xfrm>
                    <a:off x="6565680" y="339048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8/04/9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6565680" y="339048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7385760" y="3390480"/>
                  <a:ext cx="819720" cy="213480"/>
                  <a:chOff x="7385760" y="3390480"/>
                  <a:chExt cx="819720" cy="213480"/>
                </a:xfrm>
              </p:grpSpPr>
              <p:sp>
                <p:nvSpPr>
                  <p:cNvPr id="141" name=""/>
                  <p:cNvSpPr/>
                  <p:nvPr/>
                </p:nvSpPr>
                <p:spPr>
                  <a:xfrm>
                    <a:off x="7385760" y="339048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11/9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2" name=""/>
                  <p:cNvSpPr/>
                  <p:nvPr/>
                </p:nvSpPr>
                <p:spPr>
                  <a:xfrm>
                    <a:off x="7385760" y="339048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
                <p:cNvGrpSpPr/>
                <p:nvPr/>
              </p:nvGrpSpPr>
              <p:grpSpPr>
                <a:xfrm>
                  <a:off x="5794560" y="3604320"/>
                  <a:ext cx="770760" cy="213480"/>
                  <a:chOff x="5794560" y="3604320"/>
                  <a:chExt cx="770760" cy="213480"/>
                </a:xfrm>
              </p:grpSpPr>
              <p:sp>
                <p:nvSpPr>
                  <p:cNvPr id="144" name=""/>
                  <p:cNvSpPr/>
                  <p:nvPr/>
                </p:nvSpPr>
                <p:spPr>
                  <a:xfrm>
                    <a:off x="5794560" y="3604320"/>
                    <a:ext cx="77076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11/9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5" name=""/>
                  <p:cNvSpPr/>
                  <p:nvPr/>
                </p:nvSpPr>
                <p:spPr>
                  <a:xfrm>
                    <a:off x="5794560" y="3604320"/>
                    <a:ext cx="77076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565680" y="3604320"/>
                  <a:ext cx="819720" cy="213480"/>
                  <a:chOff x="6565680" y="3604320"/>
                  <a:chExt cx="819720" cy="213480"/>
                </a:xfrm>
              </p:grpSpPr>
              <p:sp>
                <p:nvSpPr>
                  <p:cNvPr id="147" name=""/>
                  <p:cNvSpPr/>
                  <p:nvPr/>
                </p:nvSpPr>
                <p:spPr>
                  <a:xfrm>
                    <a:off x="6565680" y="360432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4/05/9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 name=""/>
                  <p:cNvSpPr/>
                  <p:nvPr/>
                </p:nvSpPr>
                <p:spPr>
                  <a:xfrm>
                    <a:off x="6565680" y="360432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7385760" y="3604320"/>
                  <a:ext cx="819720" cy="213480"/>
                  <a:chOff x="7385760" y="3604320"/>
                  <a:chExt cx="819720" cy="213480"/>
                </a:xfrm>
              </p:grpSpPr>
              <p:sp>
                <p:nvSpPr>
                  <p:cNvPr id="150" name=""/>
                  <p:cNvSpPr/>
                  <p:nvPr/>
                </p:nvSpPr>
                <p:spPr>
                  <a:xfrm>
                    <a:off x="7385760" y="360432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3/12/9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1" name=""/>
                  <p:cNvSpPr/>
                  <p:nvPr/>
                </p:nvSpPr>
                <p:spPr>
                  <a:xfrm>
                    <a:off x="7385760" y="360432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5794560" y="3818160"/>
                  <a:ext cx="770760" cy="213840"/>
                  <a:chOff x="5794560" y="3818160"/>
                  <a:chExt cx="770760" cy="213840"/>
                </a:xfrm>
              </p:grpSpPr>
              <p:sp>
                <p:nvSpPr>
                  <p:cNvPr id="153" name=""/>
                  <p:cNvSpPr/>
                  <p:nvPr/>
                </p:nvSpPr>
                <p:spPr>
                  <a:xfrm>
                    <a:off x="5794560" y="3818160"/>
                    <a:ext cx="770760" cy="21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12/92</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 name=""/>
                  <p:cNvSpPr/>
                  <p:nvPr/>
                </p:nvSpPr>
                <p:spPr>
                  <a:xfrm>
                    <a:off x="5794560" y="3818160"/>
                    <a:ext cx="770760" cy="213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6565680" y="3818160"/>
                  <a:ext cx="819720" cy="213840"/>
                  <a:chOff x="6565680" y="3818160"/>
                  <a:chExt cx="819720" cy="213840"/>
                </a:xfrm>
              </p:grpSpPr>
              <p:sp>
                <p:nvSpPr>
                  <p:cNvPr id="156" name=""/>
                  <p:cNvSpPr/>
                  <p:nvPr/>
                </p:nvSpPr>
                <p:spPr>
                  <a:xfrm>
                    <a:off x="6565680" y="3818160"/>
                    <a:ext cx="819720" cy="21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9/05/9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7" name=""/>
                  <p:cNvSpPr/>
                  <p:nvPr/>
                </p:nvSpPr>
                <p:spPr>
                  <a:xfrm>
                    <a:off x="6565680" y="3818160"/>
                    <a:ext cx="819720" cy="213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7385760" y="3818160"/>
                  <a:ext cx="819720" cy="213840"/>
                  <a:chOff x="7385760" y="3818160"/>
                  <a:chExt cx="819720" cy="213840"/>
                </a:xfrm>
              </p:grpSpPr>
              <p:sp>
                <p:nvSpPr>
                  <p:cNvPr id="159" name=""/>
                  <p:cNvSpPr/>
                  <p:nvPr/>
                </p:nvSpPr>
                <p:spPr>
                  <a:xfrm>
                    <a:off x="7385760" y="3818160"/>
                    <a:ext cx="819720" cy="213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9/02/9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 name=""/>
                  <p:cNvSpPr/>
                  <p:nvPr/>
                </p:nvSpPr>
                <p:spPr>
                  <a:xfrm>
                    <a:off x="7385760" y="3818160"/>
                    <a:ext cx="819720" cy="213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794560" y="4032000"/>
                  <a:ext cx="770760" cy="213480"/>
                  <a:chOff x="5794560" y="4032000"/>
                  <a:chExt cx="770760" cy="213480"/>
                </a:xfrm>
              </p:grpSpPr>
              <p:sp>
                <p:nvSpPr>
                  <p:cNvPr id="162" name=""/>
                  <p:cNvSpPr/>
                  <p:nvPr/>
                </p:nvSpPr>
                <p:spPr>
                  <a:xfrm>
                    <a:off x="5794560" y="4032000"/>
                    <a:ext cx="77076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01/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3" name=""/>
                  <p:cNvSpPr/>
                  <p:nvPr/>
                </p:nvSpPr>
                <p:spPr>
                  <a:xfrm>
                    <a:off x="5794560" y="4032000"/>
                    <a:ext cx="77076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6565680" y="4032000"/>
                  <a:ext cx="819720" cy="213480"/>
                  <a:chOff x="6565680" y="4032000"/>
                  <a:chExt cx="819720" cy="213480"/>
                </a:xfrm>
              </p:grpSpPr>
              <p:sp>
                <p:nvSpPr>
                  <p:cNvPr id="165" name=""/>
                  <p:cNvSpPr/>
                  <p:nvPr/>
                </p:nvSpPr>
                <p:spPr>
                  <a:xfrm>
                    <a:off x="6565680" y="403200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6/06/9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6" name=""/>
                  <p:cNvSpPr/>
                  <p:nvPr/>
                </p:nvSpPr>
                <p:spPr>
                  <a:xfrm>
                    <a:off x="6565680" y="403200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385760" y="4032000"/>
                  <a:ext cx="819720" cy="213480"/>
                  <a:chOff x="7385760" y="4032000"/>
                  <a:chExt cx="819720" cy="213480"/>
                </a:xfrm>
              </p:grpSpPr>
              <p:sp>
                <p:nvSpPr>
                  <p:cNvPr id="168" name=""/>
                  <p:cNvSpPr/>
                  <p:nvPr/>
                </p:nvSpPr>
                <p:spPr>
                  <a:xfrm>
                    <a:off x="7385760" y="403200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2/04/9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
                  <p:cNvSpPr/>
                  <p:nvPr/>
                </p:nvSpPr>
                <p:spPr>
                  <a:xfrm>
                    <a:off x="7385760" y="403200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5794560" y="4245840"/>
                  <a:ext cx="770760" cy="213480"/>
                  <a:chOff x="5794560" y="4245840"/>
                  <a:chExt cx="770760" cy="213480"/>
                </a:xfrm>
              </p:grpSpPr>
              <p:sp>
                <p:nvSpPr>
                  <p:cNvPr id="171" name=""/>
                  <p:cNvSpPr/>
                  <p:nvPr/>
                </p:nvSpPr>
                <p:spPr>
                  <a:xfrm>
                    <a:off x="5794560" y="4245840"/>
                    <a:ext cx="77076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02/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2" name=""/>
                  <p:cNvSpPr/>
                  <p:nvPr/>
                </p:nvSpPr>
                <p:spPr>
                  <a:xfrm>
                    <a:off x="5794560" y="4245840"/>
                    <a:ext cx="77076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6565680" y="4245840"/>
                  <a:ext cx="819720" cy="213480"/>
                  <a:chOff x="6565680" y="4245840"/>
                  <a:chExt cx="819720" cy="213480"/>
                </a:xfrm>
              </p:grpSpPr>
              <p:sp>
                <p:nvSpPr>
                  <p:cNvPr id="174" name=""/>
                  <p:cNvSpPr/>
                  <p:nvPr/>
                </p:nvSpPr>
                <p:spPr>
                  <a:xfrm>
                    <a:off x="6565680" y="424584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06/9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6565680" y="424584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7385760" y="4245840"/>
                  <a:ext cx="819720" cy="213480"/>
                  <a:chOff x="7385760" y="4245840"/>
                  <a:chExt cx="819720" cy="213480"/>
                </a:xfrm>
              </p:grpSpPr>
              <p:sp>
                <p:nvSpPr>
                  <p:cNvPr id="177" name=""/>
                  <p:cNvSpPr/>
                  <p:nvPr/>
                </p:nvSpPr>
                <p:spPr>
                  <a:xfrm>
                    <a:off x="7385760" y="4245840"/>
                    <a:ext cx="819720" cy="213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06/96</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7385760" y="4245840"/>
                    <a:ext cx="819720" cy="213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794560" y="4459320"/>
                  <a:ext cx="770760" cy="224280"/>
                  <a:chOff x="5794560" y="4459320"/>
                  <a:chExt cx="770760" cy="224280"/>
                </a:xfrm>
              </p:grpSpPr>
              <p:sp>
                <p:nvSpPr>
                  <p:cNvPr id="180" name=""/>
                  <p:cNvSpPr/>
                  <p:nvPr/>
                </p:nvSpPr>
                <p:spPr>
                  <a:xfrm>
                    <a:off x="5794560" y="4459320"/>
                    <a:ext cx="77076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03/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1" name=""/>
                  <p:cNvSpPr/>
                  <p:nvPr/>
                </p:nvSpPr>
                <p:spPr>
                  <a:xfrm>
                    <a:off x="5794560" y="4459320"/>
                    <a:ext cx="77076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6565680" y="4459320"/>
                  <a:ext cx="819720" cy="224280"/>
                  <a:chOff x="6565680" y="4459320"/>
                  <a:chExt cx="819720" cy="224280"/>
                </a:xfrm>
              </p:grpSpPr>
              <p:sp>
                <p:nvSpPr>
                  <p:cNvPr id="183" name=""/>
                  <p:cNvSpPr/>
                  <p:nvPr/>
                </p:nvSpPr>
                <p:spPr>
                  <a:xfrm>
                    <a:off x="6565680" y="445932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08/9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6565680" y="445932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7385760" y="4459320"/>
                  <a:ext cx="819720" cy="224280"/>
                  <a:chOff x="7385760" y="4459320"/>
                  <a:chExt cx="819720" cy="224280"/>
                </a:xfrm>
              </p:grpSpPr>
              <p:sp>
                <p:nvSpPr>
                  <p:cNvPr id="186" name=""/>
                  <p:cNvSpPr/>
                  <p:nvPr/>
                </p:nvSpPr>
                <p:spPr>
                  <a:xfrm>
                    <a:off x="7385760" y="445932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
                  <p:cNvSpPr/>
                  <p:nvPr/>
                </p:nvSpPr>
                <p:spPr>
                  <a:xfrm>
                    <a:off x="7385760" y="445932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5794560" y="4683960"/>
                  <a:ext cx="770760" cy="224280"/>
                  <a:chOff x="5794560" y="4683960"/>
                  <a:chExt cx="770760" cy="224280"/>
                </a:xfrm>
              </p:grpSpPr>
              <p:sp>
                <p:nvSpPr>
                  <p:cNvPr id="189" name=""/>
                  <p:cNvSpPr/>
                  <p:nvPr/>
                </p:nvSpPr>
                <p:spPr>
                  <a:xfrm>
                    <a:off x="5794560" y="4683960"/>
                    <a:ext cx="77076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03/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5794560" y="4683960"/>
                    <a:ext cx="77076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6565680" y="4683960"/>
                  <a:ext cx="819720" cy="224280"/>
                  <a:chOff x="6565680" y="4683960"/>
                  <a:chExt cx="819720" cy="224280"/>
                </a:xfrm>
              </p:grpSpPr>
              <p:sp>
                <p:nvSpPr>
                  <p:cNvPr id="192" name=""/>
                  <p:cNvSpPr/>
                  <p:nvPr/>
                </p:nvSpPr>
                <p:spPr>
                  <a:xfrm>
                    <a:off x="6565680" y="468396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10/9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6565680" y="468396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7385760" y="4683960"/>
                  <a:ext cx="819720" cy="224280"/>
                  <a:chOff x="7385760" y="4683960"/>
                  <a:chExt cx="819720" cy="224280"/>
                </a:xfrm>
              </p:grpSpPr>
              <p:sp>
                <p:nvSpPr>
                  <p:cNvPr id="195" name=""/>
                  <p:cNvSpPr/>
                  <p:nvPr/>
                </p:nvSpPr>
                <p:spPr>
                  <a:xfrm>
                    <a:off x="7385760" y="468396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
                  <p:cNvSpPr/>
                  <p:nvPr/>
                </p:nvSpPr>
                <p:spPr>
                  <a:xfrm>
                    <a:off x="7385760" y="468396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794560" y="4908240"/>
                  <a:ext cx="770760" cy="224280"/>
                  <a:chOff x="5794560" y="4908240"/>
                  <a:chExt cx="770760" cy="224280"/>
                </a:xfrm>
              </p:grpSpPr>
              <p:sp>
                <p:nvSpPr>
                  <p:cNvPr id="198" name=""/>
                  <p:cNvSpPr/>
                  <p:nvPr/>
                </p:nvSpPr>
                <p:spPr>
                  <a:xfrm>
                    <a:off x="5794560" y="4908240"/>
                    <a:ext cx="77076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04/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9" name=""/>
                  <p:cNvSpPr/>
                  <p:nvPr/>
                </p:nvSpPr>
                <p:spPr>
                  <a:xfrm>
                    <a:off x="5794560" y="4908240"/>
                    <a:ext cx="77076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6565680" y="4908240"/>
                  <a:ext cx="819720" cy="224280"/>
                  <a:chOff x="6565680" y="4908240"/>
                  <a:chExt cx="819720" cy="224280"/>
                </a:xfrm>
              </p:grpSpPr>
              <p:sp>
                <p:nvSpPr>
                  <p:cNvPr id="201" name=""/>
                  <p:cNvSpPr/>
                  <p:nvPr/>
                </p:nvSpPr>
                <p:spPr>
                  <a:xfrm>
                    <a:off x="6565680" y="490824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11/9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6565680" y="490824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385760" y="4908240"/>
                  <a:ext cx="819720" cy="224280"/>
                  <a:chOff x="7385760" y="4908240"/>
                  <a:chExt cx="819720" cy="224280"/>
                </a:xfrm>
              </p:grpSpPr>
              <p:sp>
                <p:nvSpPr>
                  <p:cNvPr id="204" name=""/>
                  <p:cNvSpPr/>
                  <p:nvPr/>
                </p:nvSpPr>
                <p:spPr>
                  <a:xfrm>
                    <a:off x="7385760" y="490824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
                  <p:cNvSpPr/>
                  <p:nvPr/>
                </p:nvSpPr>
                <p:spPr>
                  <a:xfrm>
                    <a:off x="7385760" y="490824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794560" y="5132880"/>
                  <a:ext cx="770760" cy="224280"/>
                  <a:chOff x="5794560" y="5132880"/>
                  <a:chExt cx="770760" cy="224280"/>
                </a:xfrm>
              </p:grpSpPr>
              <p:sp>
                <p:nvSpPr>
                  <p:cNvPr id="207" name=""/>
                  <p:cNvSpPr/>
                  <p:nvPr/>
                </p:nvSpPr>
                <p:spPr>
                  <a:xfrm>
                    <a:off x="5794560" y="5132880"/>
                    <a:ext cx="77076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05/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
                  <p:cNvSpPr/>
                  <p:nvPr/>
                </p:nvSpPr>
                <p:spPr>
                  <a:xfrm>
                    <a:off x="5794560" y="5132880"/>
                    <a:ext cx="77076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6565680" y="5132880"/>
                  <a:ext cx="819720" cy="224280"/>
                  <a:chOff x="6565680" y="5132880"/>
                  <a:chExt cx="819720" cy="224280"/>
                </a:xfrm>
              </p:grpSpPr>
              <p:sp>
                <p:nvSpPr>
                  <p:cNvPr id="210" name=""/>
                  <p:cNvSpPr/>
                  <p:nvPr/>
                </p:nvSpPr>
                <p:spPr>
                  <a:xfrm>
                    <a:off x="6565680" y="513288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3/12/9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 name=""/>
                  <p:cNvSpPr/>
                  <p:nvPr/>
                </p:nvSpPr>
                <p:spPr>
                  <a:xfrm>
                    <a:off x="6565680" y="513288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385760" y="5132880"/>
                  <a:ext cx="819720" cy="224280"/>
                  <a:chOff x="7385760" y="5132880"/>
                  <a:chExt cx="819720" cy="224280"/>
                </a:xfrm>
              </p:grpSpPr>
              <p:sp>
                <p:nvSpPr>
                  <p:cNvPr id="213" name=""/>
                  <p:cNvSpPr/>
                  <p:nvPr/>
                </p:nvSpPr>
                <p:spPr>
                  <a:xfrm>
                    <a:off x="7385760" y="513288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385760" y="513288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794560" y="5357160"/>
                  <a:ext cx="770760" cy="224280"/>
                  <a:chOff x="5794560" y="5357160"/>
                  <a:chExt cx="770760" cy="224280"/>
                </a:xfrm>
              </p:grpSpPr>
              <p:sp>
                <p:nvSpPr>
                  <p:cNvPr id="216" name=""/>
                  <p:cNvSpPr/>
                  <p:nvPr/>
                </p:nvSpPr>
                <p:spPr>
                  <a:xfrm>
                    <a:off x="5794560" y="5357160"/>
                    <a:ext cx="77076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05/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5794560" y="5357160"/>
                    <a:ext cx="77076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6565680" y="5357160"/>
                  <a:ext cx="819720" cy="224280"/>
                  <a:chOff x="6565680" y="5357160"/>
                  <a:chExt cx="819720" cy="224280"/>
                </a:xfrm>
              </p:grpSpPr>
              <p:sp>
                <p:nvSpPr>
                  <p:cNvPr id="219" name=""/>
                  <p:cNvSpPr/>
                  <p:nvPr/>
                </p:nvSpPr>
                <p:spPr>
                  <a:xfrm>
                    <a:off x="6565680" y="535716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5/01/9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0" name=""/>
                  <p:cNvSpPr/>
                  <p:nvPr/>
                </p:nvSpPr>
                <p:spPr>
                  <a:xfrm>
                    <a:off x="6565680" y="535716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7385760" y="5357160"/>
                  <a:ext cx="819720" cy="224280"/>
                  <a:chOff x="7385760" y="5357160"/>
                  <a:chExt cx="819720" cy="224280"/>
                </a:xfrm>
              </p:grpSpPr>
              <p:sp>
                <p:nvSpPr>
                  <p:cNvPr id="222" name=""/>
                  <p:cNvSpPr/>
                  <p:nvPr/>
                </p:nvSpPr>
                <p:spPr>
                  <a:xfrm>
                    <a:off x="7385760" y="535716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7385760" y="535716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5794560" y="5581440"/>
                  <a:ext cx="770760" cy="224280"/>
                  <a:chOff x="5794560" y="5581440"/>
                  <a:chExt cx="770760" cy="224280"/>
                </a:xfrm>
              </p:grpSpPr>
              <p:sp>
                <p:nvSpPr>
                  <p:cNvPr id="225" name=""/>
                  <p:cNvSpPr/>
                  <p:nvPr/>
                </p:nvSpPr>
                <p:spPr>
                  <a:xfrm>
                    <a:off x="5794560" y="5581440"/>
                    <a:ext cx="77076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8/07/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5794560" y="5581440"/>
                    <a:ext cx="77076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6565680" y="5581440"/>
                  <a:ext cx="819720" cy="224280"/>
                  <a:chOff x="6565680" y="5581440"/>
                  <a:chExt cx="819720" cy="224280"/>
                </a:xfrm>
              </p:grpSpPr>
              <p:sp>
                <p:nvSpPr>
                  <p:cNvPr id="228" name=""/>
                  <p:cNvSpPr/>
                  <p:nvPr/>
                </p:nvSpPr>
                <p:spPr>
                  <a:xfrm>
                    <a:off x="6565680" y="558144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02/9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 name=""/>
                  <p:cNvSpPr/>
                  <p:nvPr/>
                </p:nvSpPr>
                <p:spPr>
                  <a:xfrm>
                    <a:off x="6565680" y="558144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7385760" y="5581440"/>
                  <a:ext cx="819720" cy="224280"/>
                  <a:chOff x="7385760" y="5581440"/>
                  <a:chExt cx="819720" cy="224280"/>
                </a:xfrm>
              </p:grpSpPr>
              <p:sp>
                <p:nvSpPr>
                  <p:cNvPr id="231" name=""/>
                  <p:cNvSpPr/>
                  <p:nvPr/>
                </p:nvSpPr>
                <p:spPr>
                  <a:xfrm>
                    <a:off x="7385760" y="558144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7385760" y="558144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794560" y="5805720"/>
                  <a:ext cx="770760" cy="224280"/>
                  <a:chOff x="5794560" y="5805720"/>
                  <a:chExt cx="770760" cy="224280"/>
                </a:xfrm>
              </p:grpSpPr>
              <p:sp>
                <p:nvSpPr>
                  <p:cNvPr id="234" name=""/>
                  <p:cNvSpPr/>
                  <p:nvPr/>
                </p:nvSpPr>
                <p:spPr>
                  <a:xfrm>
                    <a:off x="5794560" y="5805720"/>
                    <a:ext cx="77076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07/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 name=""/>
                  <p:cNvSpPr/>
                  <p:nvPr/>
                </p:nvSpPr>
                <p:spPr>
                  <a:xfrm>
                    <a:off x="5794560" y="5805720"/>
                    <a:ext cx="77076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6565680" y="5805720"/>
                  <a:ext cx="819720" cy="224280"/>
                  <a:chOff x="6565680" y="5805720"/>
                  <a:chExt cx="819720" cy="224280"/>
                </a:xfrm>
              </p:grpSpPr>
              <p:sp>
                <p:nvSpPr>
                  <p:cNvPr id="237" name=""/>
                  <p:cNvSpPr/>
                  <p:nvPr/>
                </p:nvSpPr>
                <p:spPr>
                  <a:xfrm>
                    <a:off x="6565680" y="580572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6/03/9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8" name=""/>
                  <p:cNvSpPr/>
                  <p:nvPr/>
                </p:nvSpPr>
                <p:spPr>
                  <a:xfrm>
                    <a:off x="6565680" y="580572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7385760" y="5805720"/>
                  <a:ext cx="819720" cy="224280"/>
                  <a:chOff x="7385760" y="5805720"/>
                  <a:chExt cx="819720" cy="224280"/>
                </a:xfrm>
              </p:grpSpPr>
              <p:sp>
                <p:nvSpPr>
                  <p:cNvPr id="240" name=""/>
                  <p:cNvSpPr/>
                  <p:nvPr/>
                </p:nvSpPr>
                <p:spPr>
                  <a:xfrm>
                    <a:off x="7385760" y="580572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7385760" y="580572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5794560" y="6030360"/>
                  <a:ext cx="770760" cy="224280"/>
                  <a:chOff x="5794560" y="6030360"/>
                  <a:chExt cx="770760" cy="224280"/>
                </a:xfrm>
              </p:grpSpPr>
              <p:sp>
                <p:nvSpPr>
                  <p:cNvPr id="243" name=""/>
                  <p:cNvSpPr/>
                  <p:nvPr/>
                </p:nvSpPr>
                <p:spPr>
                  <a:xfrm>
                    <a:off x="5794560" y="6030360"/>
                    <a:ext cx="77076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8/09/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5794560" y="6030360"/>
                    <a:ext cx="77076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6565680" y="6030360"/>
                  <a:ext cx="819720" cy="224280"/>
                  <a:chOff x="6565680" y="6030360"/>
                  <a:chExt cx="819720" cy="224280"/>
                </a:xfrm>
              </p:grpSpPr>
              <p:sp>
                <p:nvSpPr>
                  <p:cNvPr id="246" name=""/>
                  <p:cNvSpPr/>
                  <p:nvPr/>
                </p:nvSpPr>
                <p:spPr>
                  <a:xfrm>
                    <a:off x="6565680" y="603036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3/04/9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6565680" y="603036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7385760" y="6030360"/>
                  <a:ext cx="819720" cy="224280"/>
                  <a:chOff x="7385760" y="6030360"/>
                  <a:chExt cx="819720" cy="224280"/>
                </a:xfrm>
              </p:grpSpPr>
              <p:sp>
                <p:nvSpPr>
                  <p:cNvPr id="249" name=""/>
                  <p:cNvSpPr/>
                  <p:nvPr/>
                </p:nvSpPr>
                <p:spPr>
                  <a:xfrm>
                    <a:off x="7385760" y="603036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
                  <p:cNvSpPr/>
                  <p:nvPr/>
                </p:nvSpPr>
                <p:spPr>
                  <a:xfrm>
                    <a:off x="7385760" y="603036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794560" y="6254640"/>
                  <a:ext cx="770760" cy="224280"/>
                  <a:chOff x="5794560" y="6254640"/>
                  <a:chExt cx="770760" cy="224280"/>
                </a:xfrm>
              </p:grpSpPr>
              <p:sp>
                <p:nvSpPr>
                  <p:cNvPr id="252" name=""/>
                  <p:cNvSpPr/>
                  <p:nvPr/>
                </p:nvSpPr>
                <p:spPr>
                  <a:xfrm>
                    <a:off x="5794560" y="6254640"/>
                    <a:ext cx="77076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05/10/9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3" name=""/>
                  <p:cNvSpPr/>
                  <p:nvPr/>
                </p:nvSpPr>
                <p:spPr>
                  <a:xfrm>
                    <a:off x="5794560" y="6254640"/>
                    <a:ext cx="77076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6565680" y="6254640"/>
                  <a:ext cx="819720" cy="224280"/>
                  <a:chOff x="6565680" y="6254640"/>
                  <a:chExt cx="819720" cy="224280"/>
                </a:xfrm>
              </p:grpSpPr>
              <p:sp>
                <p:nvSpPr>
                  <p:cNvPr id="255" name=""/>
                  <p:cNvSpPr/>
                  <p:nvPr/>
                </p:nvSpPr>
                <p:spPr>
                  <a:xfrm>
                    <a:off x="6565680" y="625464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04/9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6565680" y="625464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385760" y="6254640"/>
                  <a:ext cx="819720" cy="224280"/>
                  <a:chOff x="7385760" y="6254640"/>
                  <a:chExt cx="819720" cy="224280"/>
                </a:xfrm>
              </p:grpSpPr>
              <p:sp>
                <p:nvSpPr>
                  <p:cNvPr id="258" name=""/>
                  <p:cNvSpPr/>
                  <p:nvPr/>
                </p:nvSpPr>
                <p:spPr>
                  <a:xfrm>
                    <a:off x="7385760" y="6254640"/>
                    <a:ext cx="819720" cy="22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
                  <p:cNvSpPr/>
                  <p:nvPr/>
                </p:nvSpPr>
                <p:spPr>
                  <a:xfrm>
                    <a:off x="7385760" y="6254640"/>
                    <a:ext cx="819720" cy="22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0" name=""/>
              <p:cNvSpPr/>
              <p:nvPr/>
            </p:nvSpPr>
            <p:spPr>
              <a:xfrm>
                <a:off x="5791320" y="1828800"/>
                <a:ext cx="2418840" cy="465120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5562720" y="762120"/>
              <a:ext cx="2895480" cy="5943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1371600" y="533520"/>
          <a:ext cx="6553080" cy="4305240"/>
        </p:xfrm>
        <a:graphic>
          <a:graphicData uri="http://schemas.openxmlformats.org/presentationml/2006/ole">
            <p:oleObj progId="Word.Document.12" r:id="rId1" spid="">
              <p:embed/>
              <p:pic>
                <p:nvPicPr>
                  <p:cNvPr id="44" name="" descr=""/>
                  <p:cNvPicPr/>
                  <p:nvPr/>
                </p:nvPicPr>
                <p:blipFill>
                  <a:blip r:embed="rId2"/>
                  <a:stretch/>
                </p:blipFill>
                <p:spPr>
                  <a:xfrm>
                    <a:off x="1371600" y="533520"/>
                    <a:ext cx="6553080" cy="4305240"/>
                  </a:xfrm>
                  <a:prstGeom prst="rect">
                    <a:avLst/>
                  </a:prstGeom>
                  <a:ln w="0">
                    <a:noFill/>
                  </a:ln>
                </p:spPr>
              </p:pic>
            </p:oleObj>
          </a:graphicData>
        </a:graphic>
      </p:graphicFrame>
      <p:pic>
        <p:nvPicPr>
          <p:cNvPr id="45" name="pvmg" descr=""/>
          <p:cNvPicPr/>
          <p:nvPr/>
        </p:nvPicPr>
        <p:blipFill>
          <a:blip r:embed="rId3"/>
          <a:stretch/>
        </p:blipFill>
        <p:spPr>
          <a:xfrm>
            <a:off x="2133720" y="2514600"/>
            <a:ext cx="5105160" cy="3467160"/>
          </a:xfrm>
          <a:prstGeom prst="rect">
            <a:avLst/>
          </a:prstGeom>
          <a:ln w="0">
            <a:noFill/>
          </a:ln>
        </p:spPr>
      </p:pic>
      <p:sp>
        <p:nvSpPr>
          <p:cNvPr id="46" name=""/>
          <p:cNvSpPr/>
          <p:nvPr/>
        </p:nvSpPr>
        <p:spPr>
          <a:xfrm>
            <a:off x="2372760" y="6172200"/>
            <a:ext cx="479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Figure 1 : The Underwater Video Profiler</a:t>
            </a:r>
            <a:r>
              <a:rPr b="1" lang="en-US" sz="1600" spc="-1" strike="noStrike">
                <a:solidFill>
                  <a:srgbClr val="000000"/>
                </a:solidFill>
                <a:latin typeface="Times New Roman"/>
              </a:rPr>
              <a:t> (model II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838080" y="533520"/>
          <a:ext cx="7429680" cy="5727600"/>
        </p:xfrm>
        <a:graphic>
          <a:graphicData uri="http://schemas.openxmlformats.org/presentationml/2006/ole">
            <p:oleObj progId="Word.Document.12" r:id="rId1" spid="">
              <p:embed/>
              <p:pic>
                <p:nvPicPr>
                  <p:cNvPr id="48" name="" descr=""/>
                  <p:cNvPicPr/>
                  <p:nvPr/>
                </p:nvPicPr>
                <p:blipFill>
                  <a:blip r:embed="rId2"/>
                  <a:stretch/>
                </p:blipFill>
                <p:spPr>
                  <a:xfrm>
                    <a:off x="838080" y="533520"/>
                    <a:ext cx="7429680" cy="572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609480" y="609480"/>
          <a:ext cx="7686720" cy="5705640"/>
        </p:xfrm>
        <a:graphic>
          <a:graphicData uri="http://schemas.openxmlformats.org/presentationml/2006/ole">
            <p:oleObj progId="Word.Document.12" r:id="rId1" spid="">
              <p:embed/>
              <p:pic>
                <p:nvPicPr>
                  <p:cNvPr id="50" name="" descr=""/>
                  <p:cNvPicPr/>
                  <p:nvPr/>
                </p:nvPicPr>
                <p:blipFill>
                  <a:blip r:embed="rId2"/>
                  <a:stretch/>
                </p:blipFill>
                <p:spPr>
                  <a:xfrm>
                    <a:off x="609480" y="609480"/>
                    <a:ext cx="768672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3372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1828800" y="685800"/>
            <a:ext cx="4800600" cy="3403440"/>
          </a:xfrm>
          <a:prstGeom prst="rect">
            <a:avLst/>
          </a:prstGeom>
          <a:ln w="0">
            <a:noFill/>
          </a:ln>
        </p:spPr>
      </p:pic>
      <p:sp>
        <p:nvSpPr>
          <p:cNvPr id="53" name=""/>
          <p:cNvSpPr/>
          <p:nvPr/>
        </p:nvSpPr>
        <p:spPr>
          <a:xfrm>
            <a:off x="1752480" y="4267080"/>
            <a:ext cx="487692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igure 2: Relation between particle ESD (mm) measured using a stereomicroscope and it's apparent surface after digitization (in pixels) for UVP model II. Two types of objects have been used (open square for the dense particles and filled squares for others).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1305000" y="685800"/>
          <a:ext cx="6953040" cy="5257800"/>
        </p:xfrm>
        <a:graphic>
          <a:graphicData uri="http://schemas.openxmlformats.org/presentationml/2006/ole">
            <p:oleObj progId="Word.Document.12" r:id="rId1" spid="">
              <p:embed/>
              <p:pic>
                <p:nvPicPr>
                  <p:cNvPr id="55" name="" descr=""/>
                  <p:cNvPicPr/>
                  <p:nvPr/>
                </p:nvPicPr>
                <p:blipFill>
                  <a:blip r:embed="rId2"/>
                  <a:stretch/>
                </p:blipFill>
                <p:spPr>
                  <a:xfrm>
                    <a:off x="1305000" y="685800"/>
                    <a:ext cx="695304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1295280" y="1295280"/>
          <a:ext cx="6324840" cy="3670560"/>
        </p:xfrm>
        <a:graphic>
          <a:graphicData uri="http://schemas.openxmlformats.org/presentationml/2006/ole">
            <p:oleObj progId="Word.Document.12" r:id="rId1" spid="">
              <p:embed/>
              <p:pic>
                <p:nvPicPr>
                  <p:cNvPr id="57" name="" descr=""/>
                  <p:cNvPicPr/>
                  <p:nvPr/>
                </p:nvPicPr>
                <p:blipFill>
                  <a:blip r:embed="rId2"/>
                  <a:stretch/>
                </p:blipFill>
                <p:spPr>
                  <a:xfrm>
                    <a:off x="1295280" y="1295280"/>
                    <a:ext cx="6324840" cy="367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600200" y="5791320"/>
          <a:ext cx="5972040" cy="809640"/>
        </p:xfrm>
        <a:graphic>
          <a:graphicData uri="http://schemas.openxmlformats.org/presentationml/2006/ole">
            <p:oleObj progId="Word.Document.12" r:id="rId1" spid="">
              <p:embed/>
              <p:pic>
                <p:nvPicPr>
                  <p:cNvPr id="59" name="" descr=""/>
                  <p:cNvPicPr/>
                  <p:nvPr/>
                </p:nvPicPr>
                <p:blipFill>
                  <a:blip r:embed="rId2"/>
                  <a:stretch/>
                </p:blipFill>
                <p:spPr>
                  <a:xfrm>
                    <a:off x="1600200" y="5791320"/>
                    <a:ext cx="5972040" cy="809640"/>
                  </a:xfrm>
                  <a:prstGeom prst="rect">
                    <a:avLst/>
                  </a:prstGeom>
                  <a:ln w="0">
                    <a:noFill/>
                  </a:ln>
                </p:spPr>
              </p:pic>
            </p:oleObj>
          </a:graphicData>
        </a:graphic>
      </p:graphicFrame>
      <p:pic>
        <p:nvPicPr>
          <p:cNvPr id="60" name="" descr=""/>
          <p:cNvPicPr/>
          <p:nvPr/>
        </p:nvPicPr>
        <p:blipFill>
          <a:blip r:embed="rId3"/>
          <a:stretch/>
        </p:blipFill>
        <p:spPr>
          <a:xfrm>
            <a:off x="1523880" y="1143000"/>
            <a:ext cx="6096240" cy="4572000"/>
          </a:xfrm>
          <a:prstGeom prst="rect">
            <a:avLst/>
          </a:prstGeom>
          <a:ln w="0">
            <a:noFill/>
          </a:ln>
        </p:spPr>
      </p:pic>
      <p:sp>
        <p:nvSpPr>
          <p:cNvPr id="61" name=""/>
          <p:cNvSpPr/>
          <p:nvPr/>
        </p:nvSpPr>
        <p:spPr>
          <a:xfrm>
            <a:off x="1567440" y="544680"/>
            <a:ext cx="580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imation 1 : Distribution of particles size classes along a section in func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f the fluorescence and the density. (Click to start and to freeze the anim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1600200" y="838080"/>
          <a:ext cx="5973840" cy="1227240"/>
        </p:xfrm>
        <a:graphic>
          <a:graphicData uri="http://schemas.openxmlformats.org/presentationml/2006/ole">
            <p:oleObj progId="Word.Document.12" r:id="rId1" spid="">
              <p:embed/>
              <p:pic>
                <p:nvPicPr>
                  <p:cNvPr id="63" name="" descr=""/>
                  <p:cNvPicPr/>
                  <p:nvPr/>
                </p:nvPicPr>
                <p:blipFill>
                  <a:blip r:embed="rId2"/>
                  <a:stretch/>
                </p:blipFill>
                <p:spPr>
                  <a:xfrm>
                    <a:off x="1600200" y="838080"/>
                    <a:ext cx="5973840" cy="1227240"/>
                  </a:xfrm>
                  <a:prstGeom prst="rect">
                    <a:avLst/>
                  </a:prstGeom>
                  <a:ln w="0">
                    <a:noFill/>
                  </a:ln>
                </p:spPr>
              </p:pic>
            </p:oleObj>
          </a:graphicData>
        </a:graphic>
      </p:graphicFrame>
      <p:pic>
        <p:nvPicPr>
          <p:cNvPr id="64" name="" descr=""/>
          <p:cNvPicPr/>
          <p:nvPr/>
        </p:nvPicPr>
        <p:blipFill>
          <a:blip r:embed="rId3"/>
          <a:stretch/>
        </p:blipFill>
        <p:spPr>
          <a:xfrm>
            <a:off x="2590920" y="2514600"/>
            <a:ext cx="3809880" cy="2666880"/>
          </a:xfrm>
          <a:prstGeom prst="rect">
            <a:avLst/>
          </a:prstGeom>
          <a:ln w="0">
            <a:noFill/>
          </a:ln>
        </p:spPr>
      </p:pic>
      <p:sp>
        <p:nvSpPr>
          <p:cNvPr id="65" name=""/>
          <p:cNvSpPr/>
          <p:nvPr/>
        </p:nvSpPr>
        <p:spPr>
          <a:xfrm>
            <a:off x="1812960" y="5638680"/>
            <a:ext cx="546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nimation 2 : Siphonophore,  Tomopteris sp., chaetognath and larvacea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corded by the UV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8T08:45:39Z</dcterms:created>
  <dc:creator>GORSKY</dc:creator>
  <dc:description/>
  <dc:language>en-US</dc:language>
  <cp:lastModifiedBy>GORSKY</cp:lastModifiedBy>
  <dcterms:modified xsi:type="dcterms:W3CDTF">2001-10-03T09:32:29Z</dcterms:modified>
  <cp:revision>26</cp:revision>
  <dc:subject/>
  <dc:title>Aucun titre de diapositive</dc:title>
</cp:coreProperties>
</file>