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7A0F-9A00-4B24-B35C-F9AAF993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9C9E-BB39-4006-B9BD-2AB2B91B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FC3D-AE10-41D0-9873-63BFE451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0F72-0FDF-4BBA-B6BC-0334596C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4B7D-2498-4109-8304-C34D1A08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B6B7-814E-48C4-9369-AD23ABBB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D7EC-1B1B-48B0-AB78-CE9C7956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01A7-0AC4-4BD7-8E5A-08B0578E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DA3E-3E8B-4701-B22C-128EA6DF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917E-B24B-42D8-A823-19D3E7C2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7830-BA5E-43C9-921D-EECCB1B6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96B3-062D-4061-B187-A4C1EEBA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548C-A5B2-4EF4-94BF-8BA624EA8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3040" y="528480"/>
            <a:ext cx="8740800" cy="5799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1523880"/>
            <a:ext cx="6781680" cy="952560"/>
          </a:xfrm>
          <a:custGeom>
            <a:avLst/>
            <a:gdLst/>
            <a:ahLst/>
            <a:rect l="l" t="t" r="r" b="b"/>
            <a:pathLst>
              <a:path w="4272" h="600">
                <a:moveTo>
                  <a:pt x="0" y="576"/>
                </a:moveTo>
                <a:cubicBezTo>
                  <a:pt x="776" y="588"/>
                  <a:pt x="1552" y="600"/>
                  <a:pt x="2112" y="576"/>
                </a:cubicBezTo>
                <a:cubicBezTo>
                  <a:pt x="2672" y="552"/>
                  <a:pt x="3000" y="528"/>
                  <a:pt x="3360" y="432"/>
                </a:cubicBezTo>
                <a:cubicBezTo>
                  <a:pt x="3720" y="336"/>
                  <a:pt x="3996" y="168"/>
                  <a:pt x="4272" y="0"/>
                </a:cubicBezTo>
              </a:path>
            </a:pathLst>
          </a:custGeom>
          <a:noFill/>
          <a:ln w="63360">
            <a:solidFill>
              <a:srgbClr val="4d4d4d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3238560"/>
            <a:ext cx="5105520" cy="2857320"/>
          </a:xfrm>
          <a:custGeom>
            <a:avLst/>
            <a:gdLst/>
            <a:ahLst/>
            <a:rect l="l" t="t" r="r" b="b"/>
            <a:pathLst>
              <a:path w="3216" h="1800">
                <a:moveTo>
                  <a:pt x="0" y="1800"/>
                </a:moveTo>
                <a:cubicBezTo>
                  <a:pt x="60" y="1708"/>
                  <a:pt x="120" y="1616"/>
                  <a:pt x="240" y="1464"/>
                </a:cubicBezTo>
                <a:cubicBezTo>
                  <a:pt x="360" y="1312"/>
                  <a:pt x="552" y="1056"/>
                  <a:pt x="720" y="888"/>
                </a:cubicBezTo>
                <a:cubicBezTo>
                  <a:pt x="888" y="720"/>
                  <a:pt x="1016" y="576"/>
                  <a:pt x="1248" y="456"/>
                </a:cubicBezTo>
                <a:cubicBezTo>
                  <a:pt x="1480" y="336"/>
                  <a:pt x="1824" y="240"/>
                  <a:pt x="2112" y="168"/>
                </a:cubicBezTo>
                <a:cubicBezTo>
                  <a:pt x="2400" y="96"/>
                  <a:pt x="2792" y="48"/>
                  <a:pt x="2976" y="24"/>
                </a:cubicBezTo>
                <a:cubicBezTo>
                  <a:pt x="3160" y="0"/>
                  <a:pt x="3188" y="12"/>
                  <a:pt x="3216" y="24"/>
                </a:cubicBezTo>
              </a:path>
            </a:pathLst>
          </a:custGeom>
          <a:noFill/>
          <a:ln w="6336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2819520"/>
            <a:ext cx="6477120" cy="2590560"/>
          </a:xfrm>
          <a:custGeom>
            <a:avLst/>
            <a:gdLst/>
            <a:ahLst/>
            <a:rect l="l" t="t" r="r" b="b"/>
            <a:pathLst>
              <a:path w="4080" h="1632">
                <a:moveTo>
                  <a:pt x="0" y="1632"/>
                </a:moveTo>
                <a:cubicBezTo>
                  <a:pt x="528" y="1328"/>
                  <a:pt x="1056" y="1024"/>
                  <a:pt x="1440" y="816"/>
                </a:cubicBezTo>
                <a:cubicBezTo>
                  <a:pt x="1824" y="608"/>
                  <a:pt x="1976" y="504"/>
                  <a:pt x="2304" y="384"/>
                </a:cubicBezTo>
                <a:cubicBezTo>
                  <a:pt x="2632" y="264"/>
                  <a:pt x="3112" y="160"/>
                  <a:pt x="3408" y="96"/>
                </a:cubicBezTo>
                <a:cubicBezTo>
                  <a:pt x="3704" y="32"/>
                  <a:pt x="3892" y="16"/>
                  <a:pt x="4080" y="0"/>
                </a:cubicBezTo>
              </a:path>
            </a:pathLst>
          </a:custGeom>
          <a:noFill/>
          <a:ln w="6336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82040" y="18288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3280" y="29718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65120" y="35812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9960" y="63356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gure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740800" cy="5798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523880"/>
            <a:ext cx="6781680" cy="952560"/>
          </a:xfrm>
          <a:custGeom>
            <a:avLst/>
            <a:gdLst/>
            <a:ahLst/>
            <a:rect l="l" t="t" r="r" b="b"/>
            <a:pathLst>
              <a:path w="4272" h="600">
                <a:moveTo>
                  <a:pt x="0" y="576"/>
                </a:moveTo>
                <a:cubicBezTo>
                  <a:pt x="776" y="588"/>
                  <a:pt x="1552" y="600"/>
                  <a:pt x="2112" y="576"/>
                </a:cubicBezTo>
                <a:cubicBezTo>
                  <a:pt x="2672" y="552"/>
                  <a:pt x="3000" y="528"/>
                  <a:pt x="3360" y="432"/>
                </a:cubicBezTo>
                <a:cubicBezTo>
                  <a:pt x="3720" y="336"/>
                  <a:pt x="3996" y="168"/>
                  <a:pt x="4272" y="0"/>
                </a:cubicBezTo>
              </a:path>
            </a:pathLst>
          </a:custGeom>
          <a:noFill/>
          <a:ln w="63360">
            <a:solidFill>
              <a:srgbClr val="4d4d4d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3238560"/>
            <a:ext cx="5105520" cy="2857320"/>
          </a:xfrm>
          <a:custGeom>
            <a:avLst/>
            <a:gdLst/>
            <a:ahLst/>
            <a:rect l="l" t="t" r="r" b="b"/>
            <a:pathLst>
              <a:path w="3216" h="1800">
                <a:moveTo>
                  <a:pt x="0" y="1800"/>
                </a:moveTo>
                <a:cubicBezTo>
                  <a:pt x="60" y="1708"/>
                  <a:pt x="120" y="1616"/>
                  <a:pt x="240" y="1464"/>
                </a:cubicBezTo>
                <a:cubicBezTo>
                  <a:pt x="360" y="1312"/>
                  <a:pt x="552" y="1056"/>
                  <a:pt x="720" y="888"/>
                </a:cubicBezTo>
                <a:cubicBezTo>
                  <a:pt x="888" y="720"/>
                  <a:pt x="1016" y="576"/>
                  <a:pt x="1248" y="456"/>
                </a:cubicBezTo>
                <a:cubicBezTo>
                  <a:pt x="1480" y="336"/>
                  <a:pt x="1824" y="240"/>
                  <a:pt x="2112" y="168"/>
                </a:cubicBezTo>
                <a:cubicBezTo>
                  <a:pt x="2400" y="96"/>
                  <a:pt x="2792" y="48"/>
                  <a:pt x="2976" y="24"/>
                </a:cubicBezTo>
                <a:cubicBezTo>
                  <a:pt x="3160" y="0"/>
                  <a:pt x="3188" y="12"/>
                  <a:pt x="3216" y="24"/>
                </a:cubicBezTo>
              </a:path>
            </a:pathLst>
          </a:custGeom>
          <a:noFill/>
          <a:ln w="6336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2819520"/>
            <a:ext cx="6477120" cy="2590560"/>
          </a:xfrm>
          <a:custGeom>
            <a:avLst/>
            <a:gdLst/>
            <a:ahLst/>
            <a:rect l="l" t="t" r="r" b="b"/>
            <a:pathLst>
              <a:path w="4080" h="1632">
                <a:moveTo>
                  <a:pt x="0" y="1632"/>
                </a:moveTo>
                <a:cubicBezTo>
                  <a:pt x="528" y="1328"/>
                  <a:pt x="1056" y="1024"/>
                  <a:pt x="1440" y="816"/>
                </a:cubicBezTo>
                <a:cubicBezTo>
                  <a:pt x="1824" y="608"/>
                  <a:pt x="1976" y="504"/>
                  <a:pt x="2304" y="384"/>
                </a:cubicBezTo>
                <a:cubicBezTo>
                  <a:pt x="2632" y="264"/>
                  <a:pt x="3112" y="160"/>
                  <a:pt x="3408" y="96"/>
                </a:cubicBezTo>
                <a:cubicBezTo>
                  <a:pt x="3704" y="32"/>
                  <a:pt x="3892" y="16"/>
                  <a:pt x="4080" y="0"/>
                </a:cubicBezTo>
              </a:path>
            </a:pathLst>
          </a:custGeom>
          <a:noFill/>
          <a:ln w="6336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82040" y="18288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3280" y="29718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65120" y="35812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6280" y="64119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gur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7:31:49Z</dcterms:created>
  <dc:creator>Thierry Cattaldo</dc:creator>
  <dc:description/>
  <dc:language>en-US</dc:language>
  <cp:lastModifiedBy>Frank Dehairs</cp:lastModifiedBy>
  <dcterms:modified xsi:type="dcterms:W3CDTF">1999-11-24T17:47:22Z</dcterms:modified>
  <cp:revision>3</cp:revision>
  <dc:subject/>
  <dc:title>Ammonia</dc:title>
</cp:coreProperties>
</file>